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B783-6984-4814-8DBB-CF84A2130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8345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3960" y="3544920"/>
            <a:ext cx="8345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C19C-D541-42D9-9FBC-2407318E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040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3960" y="354492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0400" y="354492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E5DE-6BB5-4BFD-BAE9-217E87A68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5640" y="141588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7680" y="141588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3960" y="354492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5640" y="354492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7680" y="354492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0B4E-7B39-4874-8CCD-C46E39C76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BF03C-CA20-4273-9365-9E4072FEF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3960" y="1415880"/>
            <a:ext cx="8345520" cy="40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AF2B-D772-45EB-911B-F618ADD4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83455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DB41-799B-488C-8DF6-07165E05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40723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0400" y="1415880"/>
            <a:ext cx="40723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B228-BAAA-46DF-80D2-12D8DF1E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A87E2-23E8-4A14-9353-92EEEB09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3600" y="231840"/>
            <a:ext cx="837252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4142-91A1-4321-A11F-6A0945D7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30400" y="1415880"/>
            <a:ext cx="40723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3960" y="354492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319F-FAEB-437C-B32A-6071FB7F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3960" y="1415880"/>
            <a:ext cx="8345520" cy="40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B492-DBF2-454E-980C-E545A1F0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40723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3040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30400" y="354492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2597-2D07-4352-B26D-7DBB434A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3040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3960" y="3544920"/>
            <a:ext cx="8345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6E9C7-8925-4733-B914-7A7C89E7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8345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3960" y="3544920"/>
            <a:ext cx="8345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DA18F-982C-4D86-AA53-DDD30172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3040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3960" y="354492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30400" y="354492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9AC6-8246-45A0-B26C-43227B164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75640" y="141588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7680" y="141588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3960" y="354492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75640" y="354492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7680" y="354492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4276-940E-435D-A1AB-48C643A3C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3960" y="1415880"/>
            <a:ext cx="8345520" cy="40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83455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40723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30400" y="1415880"/>
            <a:ext cx="40723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83455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4051-4C0C-4B02-8E67-54313DC5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3600" y="231840"/>
            <a:ext cx="837252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0400" y="1415880"/>
            <a:ext cx="40723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3960" y="354492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40723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3040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30400" y="354492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40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3960" y="3544920"/>
            <a:ext cx="8345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8345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3960" y="3544920"/>
            <a:ext cx="8345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3040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3960" y="354492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30400" y="354492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75640" y="141588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97680" y="141588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3960" y="354492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75640" y="354492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97680" y="354492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3960" y="1415880"/>
            <a:ext cx="8345520" cy="40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83455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40723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0400" y="1415880"/>
            <a:ext cx="40723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B10C-51CA-4739-BC62-EAF84218C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40723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30400" y="1415880"/>
            <a:ext cx="40723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3600" y="231840"/>
            <a:ext cx="837252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30400" y="1415880"/>
            <a:ext cx="40723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3960" y="354492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40723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3040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730400" y="354492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3040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3960" y="3544920"/>
            <a:ext cx="8345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8345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3960" y="3544920"/>
            <a:ext cx="8345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3040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3960" y="354492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730400" y="354492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75640" y="141588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7680" y="141588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3960" y="354492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75640" y="354492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97680" y="3544920"/>
            <a:ext cx="268704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8068-EB3F-476E-AC69-6F226900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3600" y="231840"/>
            <a:ext cx="8372520" cy="65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AC76-60D2-4256-A090-FBB4F47B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0400" y="1415880"/>
            <a:ext cx="40723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3960" y="354492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4BBC-8954-40D1-8740-E0853D62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40723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040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0400" y="354492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43EA-E659-4D3E-8B86-73ABC2FF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0400" y="1415880"/>
            <a:ext cx="40723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3960" y="3544920"/>
            <a:ext cx="8345520" cy="194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54A7-FDA1-4A9D-96C3-0832B7F5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838188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ec5d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8ec5d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46000"/>
            <a:ext cx="838188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96440" indent="-49644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891000" indent="-39240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2" marL="1299600" indent="-40680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3" marL="1994400" indent="-46476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4" marL="2572560" indent="-46512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5" marL="2572560" indent="-46512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6" marL="2572560" indent="-46512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19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2819-9FA7-495F-B8CF-EAB3C2010642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F5C8-1A70-4B4C-A595-3859DD1DC6D9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ec5d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8ec5d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1519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0D9F-0D14-4DA6-A8D4-1FF27F4CA217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8576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D84E-2FB0-4DB4-A09E-C7931121B9DF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14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3960" y="1415880"/>
            <a:ext cx="8345520" cy="407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04040" indent="-46476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442520" indent="-4366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909440" indent="-46476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76360" indent="-465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76360" indent="-4651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76360" indent="-46512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3960" y="1620720"/>
            <a:ext cx="7772400" cy="140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468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15920" algn="ctr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59080" algn="ctr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4" marL="1930320" algn="ctr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5" marL="193032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6" marL="193032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msdn.com/" TargetMode="External"/><Relationship Id="rId3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4360" y="1557360"/>
            <a:ext cx="8610840" cy="17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Microsoft</a:t>
            </a:r>
            <a:r>
              <a:rPr b="1" lang="en-US" sz="3200" spc="-1" strike="noStrike" baseline="82000">
                <a:solidFill>
                  <a:srgbClr val="ffcc00"/>
                </a:solidFill>
                <a:latin typeface="Arial"/>
              </a:rPr>
              <a:t>®</a:t>
            </a: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 </a:t>
            </a:r>
            <a:br>
              <a:rPr sz="6000"/>
            </a:b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Visual FoxPro</a:t>
            </a:r>
            <a:r>
              <a:rPr b="1" lang="en-US" sz="3200" spc="-1" strike="noStrike" baseline="82000">
                <a:solidFill>
                  <a:srgbClr val="ffcc00"/>
                </a:solidFill>
                <a:latin typeface="Arial"/>
              </a:rPr>
              <a:t>®</a:t>
            </a: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 9.0 Beta</a:t>
            </a:r>
            <a:endParaRPr b="1" lang="en-US" sz="6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95360" y="4394160"/>
            <a:ext cx="7851600" cy="112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ke Stew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crosof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FoxPro Advisor – July 2004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3960" y="1415520"/>
            <a:ext cx="8345520" cy="527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42880" indent="-5428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vailable mid Ju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orting (detailed bands) in VFP 9.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rew MacNeil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bqueries in VFP 9.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mar E. Gran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er Interfaces in VFP 9.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ni Feltm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m and Class Design in VFP 9.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ew Speed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orting (GDI+) in VFP 9.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istof Wollenhaup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FoxTalk 2.0 – June 2004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3960" y="1415520"/>
            <a:ext cx="8345520" cy="527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42880" indent="-5428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w Editor – David Stevens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 Cool Things in VFP 9.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vid Stevens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mberData and Custom Property Edito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ug Henni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ips from the VFP Te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oft Visual FoxPro Tea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chors Aweigh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y Kramek and Marcia Aki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’s New in the VFP 9.0 Report Writ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thy Pountne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Calls To Action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472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ownload VFP 9.0 bet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st VFP 9.0 beta with applic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y new VFP 9.0 beta feat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port VFP 9.0 beta bugs foun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at about VFP 9.0 online with oth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ew samples and extensions written in VFP now available for download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Agenda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171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sual FoxPro 9.0 Beta Overvie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sual FoxPro 9.0 Beta Feedbac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y and Resour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Some VFP Team Members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19200" y="963720"/>
            <a:ext cx="7850160" cy="5886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Visual FoxPro 9.0 Overview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525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sed on wish list customer feedbac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intain backward compatibi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hance database language and typ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ditional end user UI feat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developer productiv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 Report Writer significantl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tend .NET and SQL Server intero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re extensibility, Xbase source co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heduled release: 4Q 2004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Visual FoxPro 9.0 Themes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51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ta-Handling and Interoperabilit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NET interop – XML  and XML Web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QL Server interop – types and languag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tensible Developer Productivity Too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orts, forms, controls, IntelliSense, I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perty sheet customiz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exibility for All Types of Solu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mart client to Tablet PC applic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Reporting System Goals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466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tect existing FRX invest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pen architec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tter reuse story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ign-time improve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ess to report objects at runtim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re flexibility with Report Chain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output types (e.g., XML, HTML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port processing ev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VFP 9.0 Beta Feedback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3960" y="1415520"/>
            <a:ext cx="8345520" cy="31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g Report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tp://msdn.com/vfoxpro/suppo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munity resourc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blic VFP newsgroup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ted VFP communit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tp://msdn.com/vfoxpro/commun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.NET Resources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3960" y="1415520"/>
            <a:ext cx="8345520" cy="392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SDN web si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04040" indent="-46476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78c36b"/>
                </a:solidFill>
                <a:uFillTx/>
                <a:latin typeface="Arial"/>
                <a:hlinkClick r:id="rId2"/>
              </a:rPr>
              <a:t>http://msdn.co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sual FoxPro Toolkit for 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04040" indent="-46476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tp://gotdotnet.com/team/vf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NET whitepaper for VFP develop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NET samples for VFP develop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7120" indent="-53712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NET Forum on UniversalThread.co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3600" y="231840"/>
            <a:ext cx="8372520" cy="75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Visual FoxPro Resources</a:t>
            </a:r>
            <a:endParaRPr b="1" lang="en-US" sz="4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3960" y="1415880"/>
            <a:ext cx="8345520" cy="540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FP web site on msdn.co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tp://msdn. com/vfoxpr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wnload VFP 9.0 public be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itepapers and samples for VFP 9.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S Data Team Blo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tp://blogs.msdn.com/vsdat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De Magazine Focus issue for VF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ttp://code-magazine.com/focus/vf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14480" indent="-46980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al edition for VFP 9.0 in fall 200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42880" indent="-5428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ttp://FoxToolbox.com (DBX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02:35:08Z</dcterms:created>
  <dc:creator/>
  <dc:description/>
  <cp:keywords/>
  <dc:language>en-US</dc:language>
  <cp:lastModifiedBy>Mike Stewart</cp:lastModifiedBy>
  <dcterms:modified xsi:type="dcterms:W3CDTF">2004-08-10T18:02:34Z</dcterms:modified>
  <cp:revision>798</cp:revision>
  <dc:subject/>
  <dc:title>Microsoft®  Visual FoxPro® 8.0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